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622-64EC-4037-B685-522DF53E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E65E-D4F9-42CA-973B-41953F88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681-D8C6-4182-8780-A185C6CA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B46E-B104-4FAD-9F07-31F021A5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0B8D-8C23-434B-B1D1-A2904DB1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D4FE-5E76-4B02-8BCE-A4C2FB93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74BD-DAF5-4AD9-9AFD-619746DF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57EC-331B-4688-8711-A8E8419B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E088-52B7-49F1-A48F-CD08DEDA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2474-8107-49F8-A263-0166DFB9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7F8D-DABA-4E2E-9A19-8F1F2A32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CCF2-58E6-4074-9AE6-B08E78AA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F837-0404-4571-B1F2-3037AD07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F5E9-D3A6-44AC-8271-F9C30161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2723-4584-406A-8F63-F7091257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6BAE-8DB6-4AA1-957C-3292BD7A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19EE-20D8-4149-8984-EFDA874C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C996-EB8C-4EFE-BB78-92A10154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813-D0ED-42E7-B7BF-E813261D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43C-FEB7-4AC6-89C1-758E1D99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B03D-AED6-463E-84FF-6CF81B39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C4D0-935E-41CE-81B3-40BB536C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8573-18AD-45E3-B077-A156F017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145-1E69-42FF-8CA6-5EDDC666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F4EF-7B64-4E3B-97BF-86F948FAE76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FD0E-1EFC-4657-A46B-92C17D12427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Cellular Respiration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2400" bIns="324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Krebs cycle (citric acid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Oxygen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is require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ccurs in th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mitochondri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Carbon dioxide is forme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do you get from the Krebs Cycle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 AT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4 NADH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2 FAD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quir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oxy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ccurs in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inner folds of mitochondr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many folds increase the surface area which in turn provides more room for electron transport chai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electrons are passed on from NADH and FAD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nto other proteins in the 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ventually, all electrons end up with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oxyge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which is at the bottom of the chain. Oxygen also picks hydrogen an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te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forme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hemiosmosis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TC pumps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rom the matrix into the intermembranous sp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ce the concentration of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greater outside the matrix, the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diffuse into the matrix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diffuse through ATP synthase channe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P synth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tein channel in inner membrane of mitochondr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diffusion of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hrough ATP synthase powers the conversion of ADP into AT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Overall reactio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eps in making ener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lucos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NADH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TC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hemiosmosi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TP synthe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TAL ATP GAIN per glucose= 3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lycolysis= 2 AT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rebs cycle= 2 AT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TC and phosphorylation= 34 AT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erobic vs anaerobic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erobic respi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xygen is PRESENT and is the ultimate electron accep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erobic respi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ergy is produced WITHOUT oxy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cohol ferme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ctic acid ferme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lcohol ferment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ccurs after glycolys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 ste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st,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arbon dioxide is release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rom pyruvate to become acetaldehy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, NADH donates electrons to acetaldehyde which then becomes ethanol (alcoho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rried out by bacter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d for beer brewing and winemaking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ctic acid ferment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ccurs after glycolys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kes place in the cytoplas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ste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ctic acid is produced from pyruv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O carbon dioxi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is produc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d by some bacteria and fungi to make cheese and yogu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d by human muscle cells in strenuous circumstan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uman cel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4724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aerobic respi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lycolysis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ctic acid ferme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not enough oxygen is avail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s only gluc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st way to get AT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t less ATP per glucose (2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be used for 1-3 minut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ctic acid accumulation causes pain and fatigu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7960" y="837720"/>
            <a:ext cx="46479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erobic respi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lycolysis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rebs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xygen is available in the ce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s glucose, fatty acids and amino aci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lower way to get AT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re ATP per glucose (38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be used for long periods of ti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erobic vs anaerobic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-1143000" y="-152280"/>
            <a:ext cx="601992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943520" y="-228600"/>
            <a:ext cx="42004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ere is the energy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Organic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ompounds have energy in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bo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eaking down a complex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polym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ELEASES ener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energy is used for 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is lost as he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Cellular respiration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975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Verdana"/>
              </a:rPr>
              <a:t>12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Verdana"/>
              </a:rPr>
              <a:t>6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+ 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ATP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+ 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+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66" name=""/>
          <p:cNvCxnSpPr>
            <a:stCxn id="165" idx="0"/>
            <a:endCxn id="165" idx="0"/>
          </p:cNvCxnSpPr>
          <p:nvPr/>
        </p:nvCxnSpPr>
        <p:spPr>
          <a:xfrm>
            <a:off x="4876560" y="15998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ATP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enosin triphosph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enine + 3 phosph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TP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DP + phosph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reaction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LEAS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ER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P + phosphat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TP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reaction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QUIR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ER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is how ATP in your cells is regener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SCUSS AND WRIT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CAN ATP BE COMPARED WITH A RECHARGEABLE BATTER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62120" y="2971800"/>
            <a:ext cx="2162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How can we use ATP to do work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hosphory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phosphate group from ATP is transferred to another molecu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recipient molecule is said to be phosphorylated and is more react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TP is recycled constantly within your bod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working muscle cell recycles its ATP at a rate of about 10 MILLION MOLECULES PER SECOND!!!!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energy is in the bon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w do we get energy from food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ectrons in the food molecules are moved and transferr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lectron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re first caught by electron transporters (in this case NA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d FAD) which become NADH and FADH once they gain electr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transporters carry the electrons to their final destination (oxyge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releases energy and is used to make AT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ellular respiration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3 stag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lycoly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rebs cyc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 transport chain and oxidative phosphory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lycolysis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6091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xygen requir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kes place in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ytoplas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ly releas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small amount of energ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n gluco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 glucos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2 pyruvic acid molecu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 main pha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ergy investment ph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 ATP sp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ergy payoff ph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 ATP and 2 NADH ma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NET GA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ATP and 2 NAD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27:18Z</dcterms:created>
  <dc:creator>jayoig</dc:creator>
  <dc:description/>
  <dc:language>en-US</dc:language>
  <cp:lastModifiedBy>jayoig</cp:lastModifiedBy>
  <dcterms:modified xsi:type="dcterms:W3CDTF">2008-11-25T21:25:54Z</dcterms:modified>
  <cp:revision>10</cp:revision>
  <dc:subject/>
  <dc:title>Cellular Respiration</dc:title>
</cp:coreProperties>
</file>